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81F-5D42-4874-86EB-5A9022BA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C76-088B-4D11-99F0-D73C0576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FDB-EBC9-4B01-9EC8-822BB14C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2AB-C8CE-4774-ABEA-C3E329EF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796-34BC-4BE7-83FB-0BC5A300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C03-FDB9-40FF-9A45-1C7A388C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51B-77A3-4A3B-9158-BC4A49F5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811-A0EC-4779-BC13-96CB9360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70B-B6AC-4B20-B845-9E7B73E4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84C-C1B7-4F4D-ADFC-4EFBE4B2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1F2-DA69-4E8C-A909-E88C3234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D28-B97A-4955-920F-E0453FE9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4E04-160E-4D10-904C-390E865C7D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mpact Study on</a:t>
            </a:r>
            <a:br>
              <a:rPr sz="3600"/>
            </a:br>
            <a:r>
              <a:rPr b="1" lang="en-GB" sz="4000" spc="-1" strike="noStrike">
                <a:solidFill>
                  <a:srgbClr val="5f7f00"/>
                </a:solidFill>
                <a:latin typeface="Arial"/>
              </a:rPr>
              <a:t>The Lao Extension Approach</a:t>
            </a: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mmary of F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181120" y="1218960"/>
            <a:ext cx="3429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rmers in LEA villages were happier with the work of D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rmers are generally satisfied with the work of Village Extension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hart 8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59" name="Chart 5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45846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028840" y="1523520"/>
            <a:ext cx="36291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st farmers think the techniques taught by DAFO are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cher farmers are more satisfied than po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hart 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4157640" cy="2872080"/>
          </a:xfrm>
          <a:prstGeom prst="rect">
            <a:avLst/>
          </a:prstGeom>
          <a:ln w="0">
            <a:noFill/>
          </a:ln>
        </p:spPr>
      </p:pic>
      <p:pic>
        <p:nvPicPr>
          <p:cNvPr id="62" name="Chart 5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5157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914400" y="403848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osters were used in almost all villages, while leaflets and booklets were applied in around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No chart]  Most farmers welcomed training activites, even though no funds or inputs 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hart 4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6325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7f00"/>
                </a:solidFill>
                <a:latin typeface="Arial"/>
              </a:rPr>
              <a:t>How did these farmers benef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ar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797360" cy="5443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4876920" y="1523880"/>
            <a:ext cx="40384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in LEA villages are more likely to have changed their practic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his impact is greater with livestock than for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876920" y="1218960"/>
            <a:ext cx="39290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e than half of farmers say that new techniques have improved production and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new techniques also require more 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hart 4" descr=""/>
          <p:cNvPicPr/>
          <p:nvPr/>
        </p:nvPicPr>
        <p:blipFill>
          <a:blip r:embed="rId1"/>
          <a:stretch/>
        </p:blipFill>
        <p:spPr>
          <a:xfrm>
            <a:off x="0" y="1066680"/>
            <a:ext cx="472428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723920" y="990360"/>
            <a:ext cx="386244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act on food security is not clear. Roughy 20% of LEA farmers say that rice-sufficiency has improved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re have also been improvements in non-LEA villag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mbers of rice production groups showed less improvement that other farm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 most farmers do not attribute changes in food sufficiency to new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hart 3" descr=""/>
          <p:cNvPicPr/>
          <p:nvPr/>
        </p:nvPicPr>
        <p:blipFill>
          <a:blip r:embed="rId1"/>
          <a:stretch/>
        </p:blipFill>
        <p:spPr>
          <a:xfrm>
            <a:off x="0" y="609480"/>
            <a:ext cx="4444920" cy="2799000"/>
          </a:xfrm>
          <a:prstGeom prst="rect">
            <a:avLst/>
          </a:prstGeom>
          <a:ln w="0">
            <a:noFill/>
          </a:ln>
        </p:spPr>
      </p:pic>
      <p:pic>
        <p:nvPicPr>
          <p:cNvPr id="72" name="Chart 6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45720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7f00"/>
                </a:solidFill>
                <a:latin typeface="Arial"/>
              </a:rPr>
              <a:t>What are the weaknes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action between DAFO and farmers has improved, but number of training session is still low (av. 3 per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men’s participation has increased, but is still far less than for men (between 20-4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FO continue to focus on rice, pigs and chickens, even when farmers suggest other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 farmers are changing practices, but not a big difference in the case of ri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techniques lead to higher production, but also require more 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7f00"/>
                </a:solidFill>
                <a:latin typeface="Arial"/>
              </a:rPr>
              <a:t>Is the LEA sustain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7f00"/>
                </a:solidFill>
                <a:latin typeface="Arial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participates in the LE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service do they ge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farmers benef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weak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A sustai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 membership tends to increase over time, 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groups are not formed, and old groups do not start new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s than half of of Village Extension Workers have conducted any training, and about a quarter don’t want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very little transfer of knowledge from group members to non-group members, and from village to v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7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regard to the </a:t>
            </a:r>
            <a:r>
              <a:rPr b="0" lang="en-GB" sz="2400" spc="-1" strike="noStrike">
                <a:solidFill>
                  <a:srgbClr val="5f7f00"/>
                </a:solidFill>
                <a:latin typeface="Arial"/>
              </a:rPr>
              <a:t>Government Extension System (GES)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introduction of the LEA has resulted in significant improvements in the delivery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requency of visits from DAFO to farmers and the quality of advice hav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of LEA production groups have increased their incomes and express satisfaction with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regard to the </a:t>
            </a:r>
            <a:r>
              <a:rPr b="0" lang="en-GB" sz="2400" spc="-1" strike="noStrike">
                <a:solidFill>
                  <a:srgbClr val="5f7f00"/>
                </a:solidFill>
                <a:latin typeface="Arial"/>
              </a:rPr>
              <a:t>Village Extension System (VES)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LEA has failed to stimulate a significant level of self-sustaining activity at the community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absence of DAFO support, production groups do not function as a forum for innovation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little spread of benefits beyond the production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666880" y="198072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7f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7f00"/>
                </a:solidFill>
                <a:latin typeface="Arial"/>
              </a:rPr>
              <a:t>Methodology of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llection was carried out between Dec ‘08 and Feb ‘09 by students from NUoL, ie. independent of DAFO &amp; P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udy covered North &amp; South Provinces, rich &amp; poor Districts, and different years in which LEA was introduc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 included 18 LEA and 9 non-LEA vill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thodology focussed on the opinions of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views were conducted with 300 house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interviewed were Village Authorities, heads of Production Groups and Village Extension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7f00"/>
                </a:solidFill>
                <a:latin typeface="Arial"/>
              </a:rPr>
              <a:t>Who participates in the L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952520" y="1142640"/>
            <a:ext cx="3829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en LEA groups are formed, membership is representative of all income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middle-income farmers are more likely to stay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hart 5" descr=""/>
          <p:cNvPicPr/>
          <p:nvPr/>
        </p:nvPicPr>
        <p:blipFill>
          <a:blip r:embed="rId1"/>
          <a:stretch/>
        </p:blipFill>
        <p:spPr>
          <a:xfrm>
            <a:off x="0" y="990720"/>
            <a:ext cx="494352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419360" y="1295280"/>
            <a:ext cx="4257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ore 2008, less than 20% of group members were women at time group was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during the life of the group, the portion of women tended to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hart 3" descr=""/>
          <p:cNvPicPr/>
          <p:nvPr/>
        </p:nvPicPr>
        <p:blipFill>
          <a:blip r:embed="rId1"/>
          <a:stretch/>
        </p:blipFill>
        <p:spPr>
          <a:xfrm>
            <a:off x="0" y="1066680"/>
            <a:ext cx="45115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2640" y="4800600"/>
            <a:ext cx="70102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percentage of women has increased since 2008, especially in pig-productio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hart 4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7f00"/>
                </a:solidFill>
                <a:latin typeface="Arial"/>
              </a:rPr>
              <a:t>What kind of service do these farmers g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d3"/>
            </a:gs>
            <a:gs pos="50000">
              <a:srgbClr val="f4fff5"/>
            </a:gs>
            <a:gs pos="100000">
              <a:srgbClr val="dff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3760" y="914040"/>
            <a:ext cx="34290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LEA resulted in DAFO staff making more frequent visits to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knowledge of DAFO staff also improved, with most farmers saying it was good or very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hart 7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56" name="Chart 9" descr=""/>
          <p:cNvPicPr/>
          <p:nvPr/>
        </p:nvPicPr>
        <p:blipFill>
          <a:blip r:embed="rId2"/>
          <a:stretch/>
        </p:blipFill>
        <p:spPr>
          <a:xfrm>
            <a:off x="0" y="3657600"/>
            <a:ext cx="48769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09:52:55Z</dcterms:created>
  <dc:creator>Andrew</dc:creator>
  <dc:description/>
  <dc:language>en-US</dc:language>
  <cp:lastModifiedBy>LEAP</cp:lastModifiedBy>
  <cp:lastPrinted>2010-01-18T04:43:44Z</cp:lastPrinted>
  <dcterms:modified xsi:type="dcterms:W3CDTF">2010-01-18T05:14:25Z</dcterms:modified>
  <cp:revision>18</cp:revision>
  <dc:subject/>
  <dc:title>Summary of Findings</dc:title>
</cp:coreProperties>
</file>